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C75BA-BE83-4C03-9469-437B0F3F27A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3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5560" cy="399888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755640" y="5078520"/>
            <a:ext cx="6039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04D-8E92-412D-ACA2-368B778C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4EC-2953-476F-83B7-7C21FED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B9C-429F-44B2-B4B1-915FF15D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FA1-8798-4B42-86D6-EDF60920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D59-E8F4-4247-A647-07FF957A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D9F-B248-4C79-8FC6-BFEDD5B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724-2189-4EB2-A831-A6E4C67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8E1-0794-4763-A9E9-52B7F66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171-5416-467A-8189-9A541859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525-124A-4C12-B779-DE7295B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AF2-29AA-4524-9147-05C01E5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19C-4174-4571-B92F-FE8FD87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9674-9219-4CEF-8D38-3F8F8206ED5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história dos partidos políticos no Bras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elipe B. Mac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36720" y="6480000"/>
            <a:ext cx="7848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rimônia de cremação das Bandeiras Esta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youtube.com/watch?v=xKoh2n1OT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360360"/>
            <a:ext cx="90964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experiência democrática e os partidos políticos (1945-196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5000"/>
          </a:bodyPr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nas três partidos tinham efetivamente abrangência nacional, apesar de inúmeros outros partidos formados nessa é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igura de Vargas não cabia em um só partido, seus aliados se reuniram em duas frentes: PTB e P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TB, apesar de começar como força menor, foi ganhando expressividade ao longo do perí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artido “anti-Vargas”: a UDN (antiga UDB), de oposição democrática à aspiração golpista e sua dissidência de esquerda (ED, P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urta legalidade do P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DC e PSP, dois partidos 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equenos: PR, PL, PTN (Jânio), PST, PRT, M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Golpe de 1964 e o bipartidarismo do Regime Mili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660320"/>
            <a:ext cx="90694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1000"/>
          </a:bodyPr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olarização política e o Gol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rrota nas eleições estaduais de 1965 e o fortalecimento da “linha d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I-2, as eleições indiretas para o executivo e o bipartidarismo: MDB e ARENA, o partido do “sim” e o do “sim, senh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ENA domina durante o período do “milagre econômico”, mas vai perdendo força em meados da década de 1970, o bipartidarismo fica cada vez mais ameaç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ransição “lenta, gradual e segura” e a volta do pluripartidarismo (1979): PDS, PMDB, PP, PTB e PT, além do PDT de Briz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56808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1979 a 1988: transição “lenta, gradual e segu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2016000"/>
            <a:ext cx="90694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0000"/>
          </a:bodyPr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ransição “lenta, gradual e segura” e a volta do pluripartidarismo (1979): PDS, PMDB, PP, PTB e PT, além do PDT de Briz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85, novas leis, novos partidos, o pluripartidarismo a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88, surgem mais leg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é a formação de partidos segundo a Constituição de 198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tse.jus.br/institucional/escola-judiciaria-eleitoral/revistas-da-eje/artigos/criacao-e-funcionamento-de-partidos-politicos-a-luz-da-constituicao-federal-de-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972000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273320"/>
            <a:ext cx="905976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que serve 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2771640"/>
            <a:ext cx="90597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ocês simpatizam com alg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4429080"/>
            <a:ext cx="90597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é preciso para fundar 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idos Políticos no Impé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berais X Conserv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to censitário e 4 poderes. Uma Monarquia 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ologias bastante semelhantes, diferença “apenas” quanto à centralização ou regionalização d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Conservadores, por serem oligarcas mais próximos ao Imperador, pregavam maior centralização, enquanto os Liberais, líderes políticos locais, queriam a descentr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ubes Republ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idos Políticos na 1ª Re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itória do regionalismo, caciques políticos n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clubes republicanos passam a ser partidos (PRP, PRM, PRR, PRF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sar de República, permanecia a oligarquia. Valia o “voto de cabresto”, que era aberto, além de analfabetos, mulheres, praças e religiosos não vota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ública do “Café com le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000" y="108000"/>
            <a:ext cx="719928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576360"/>
            <a:ext cx="9360000" cy="597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6696000"/>
            <a:ext cx="734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vista Careta, 1927. De Alfredo Sto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evolução de 1930 e a “Era Varg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Aliança Liberal, um grupo heterogêneo (tenentes, oligarquias dissidentes, profissionais liberais, trabalhadores urb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30 a 33 → Governo Provisório e interventorias: Congresso fe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volta Constitucionalista de 1932: derrota militar e vitória p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ituição de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ntona Comunista de 1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o Cohe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CB, ANL, AIB, PL, LEC, PR's, UDB, os partidos da Era V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5720" y="593640"/>
            <a:ext cx="8953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31640"/>
            <a:ext cx="943128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21:40:50Z</dcterms:created>
  <dc:creator/>
  <dc:description/>
  <dc:language>en-US</dc:language>
  <cp:lastModifiedBy/>
  <cp:revision>0</cp:revision>
  <dc:subject/>
  <dc:title/>
</cp:coreProperties>
</file>