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32320" cy="39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3576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68800" cy="5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BC4458-D207-4BEC-BF8A-ED2DF193BAFA}" type="slidenum">
              <a:rPr b="0" lang="pt-B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ln w="0">
            <a:noFill/>
          </a:ln>
        </p:spPr>
      </p:sp>
      <p:sp>
        <p:nvSpPr>
          <p:cNvPr id="93" name=""/>
          <p:cNvSpPr/>
          <p:nvPr/>
        </p:nvSpPr>
        <p:spPr>
          <a:xfrm>
            <a:off x="755640" y="5078520"/>
            <a:ext cx="6045120" cy="48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5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35560" cy="3998880"/>
          </a:xfrm>
          <a:prstGeom prst="rect">
            <a:avLst/>
          </a:prstGeom>
          <a:ln w="0">
            <a:noFill/>
          </a:ln>
        </p:spPr>
      </p:sp>
      <p:sp>
        <p:nvSpPr>
          <p:cNvPr id="97" name=""/>
          <p:cNvSpPr/>
          <p:nvPr/>
        </p:nvSpPr>
        <p:spPr>
          <a:xfrm>
            <a:off x="755640" y="5078520"/>
            <a:ext cx="6039000" cy="48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99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1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3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85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7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89" name=""/>
          <p:cNvSpPr/>
          <p:nvPr/>
        </p:nvSpPr>
        <p:spPr>
          <a:xfrm>
            <a:off x="755640" y="5078520"/>
            <a:ext cx="6046920" cy="48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1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E0DE-40ED-463F-BC1C-6A95B696C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F474-FA94-4BC8-9DB2-DED83BCF8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159-0AB5-4F12-80FB-6C154E40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580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8320" y="176796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580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8320" y="4051800"/>
            <a:ext cx="291636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5927-8327-4229-A15D-E720AC1DD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59C6-9892-4864-A9BF-65A1D7833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AEFC-DF12-488E-AD9B-7444DEF45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87C6-FCA8-4B2E-938F-80804E1FF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6DC2-1601-498C-B404-88FF204E6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58320" cy="57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829F-2405-40F7-93E2-09594F2B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83D-1FD4-4E4C-A27C-DAD3E7A4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120" y="405180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14DD-D786-466B-AD98-E74CF6EF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120" y="1767960"/>
            <a:ext cx="442044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1800"/>
            <a:ext cx="9058320" cy="2085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90C9-100A-4A93-A114-AAF25B2C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58320" cy="124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58320" cy="4372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276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35320" cy="5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52353-04E2-4EEA-AD40-3309F0412B98}" type="slidenum">
              <a:rPr b="0" lang="pt-B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503280" y="301680"/>
            <a:ext cx="9070920" cy="585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752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000000"/>
                </a:solidFill>
                <a:latin typeface="Arial"/>
              </a:rPr>
              <a:t>A história dos partidos políticos no Bras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elipe B. Mace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936720" y="6480000"/>
            <a:ext cx="78483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erimônia de cremação das Bandeiras Estadua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.youtube.com/watch?v=xKoh2n1OTo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80960" y="360360"/>
            <a:ext cx="9096480" cy="604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experiência democrática e os partidos políticos (1945-196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69480" cy="4999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5000"/>
          </a:bodyPr>
          <a:p>
            <a:pPr marL="249840" indent="-2498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enas três partidos tinham efetivamente abrangência nacional, apesar de inúmeros outros partidos formados nessa épo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9840" indent="-2498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figura de Vargas não cabia em um só partido, seus aliados se reuniram em duas frentes: PTB e PS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9840" indent="-2498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TB, apesar de começar como força menor, foi ganhando expressividade ao longo do perí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9840" indent="-2498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artido “anti-Vargas”: a UDN (antiga UDB), de oposição democrática à aspiração golpista e sua dissidência de esquerda (ED, PS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9840" indent="-2498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curta legalidade do P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9840" indent="-2498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DC e PSP, dois partidos méd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9840" indent="-24984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33360"/>
                <a:tab algn="l" pos="438120"/>
                <a:tab algn="l" pos="887400"/>
                <a:tab algn="l" pos="1336680"/>
                <a:tab algn="l" pos="1785960"/>
                <a:tab algn="l" pos="2235240"/>
                <a:tab algn="l" pos="2684520"/>
                <a:tab algn="l" pos="3133800"/>
                <a:tab algn="l" pos="3583080"/>
                <a:tab algn="l" pos="4032360"/>
                <a:tab algn="l" pos="4481640"/>
                <a:tab algn="l" pos="4930920"/>
                <a:tab algn="l" pos="5380200"/>
                <a:tab algn="l" pos="5829480"/>
                <a:tab algn="l" pos="6278400"/>
                <a:tab algn="l" pos="6727680"/>
                <a:tab algn="l" pos="7176960"/>
                <a:tab algn="l" pos="7626240"/>
                <a:tab algn="l" pos="8075520"/>
                <a:tab algn="l" pos="8524800"/>
                <a:tab algn="l" pos="8974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pequenos: PR, PL, PTN (Jânio), PST, PRT, MT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Golpe de 1964 e o bipartidarismo do Regime Milit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660320"/>
            <a:ext cx="90694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1000"/>
          </a:bodyPr>
          <a:p>
            <a:pPr marL="444960" indent="-444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polarização política e o Gol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960" indent="-444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rrota nas eleições estaduais de 1965 e o fortalecimento da “linha dur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960" indent="-444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AI-2, as eleições indiretas para o executivo e o bipartidarismo: MDB e ARENA, o partido do “sim” e o do “sim, senho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960" indent="-444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ENA domina durante o período do “milagre econômico”, mas vai perdendo força em meados da década de 1970, o bipartidarismo fica cada vez mais ameaç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4960" indent="-4449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transição “lenta, gradual e segura” e a volta do pluripartidarismo (1979): PDS, PMDB, PP, PTB e PT, além do PDT de Briz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2920" y="56808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 1979 a 1988: transição “lenta, gradual e segur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2920" y="2016000"/>
            <a:ext cx="9069480" cy="4678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0000"/>
          </a:bodyPr>
          <a:p>
            <a:pPr marL="439200" indent="-4392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transição “lenta, gradual e segura” e a volta do pluripartidarismo (1979): PDS, PMDB, PP, PTB e PT, além do PDT de Briz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200" indent="-4392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985, novas leis, novos partidos, o pluripartidarismo aumen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200" indent="-4392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988, surgem mais legen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200" indent="-4392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o é a formação de partidos segundo a Constituição de 1988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9200" indent="-4392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549360"/>
                <a:tab algn="l" pos="654120"/>
                <a:tab algn="l" pos="1103400"/>
                <a:tab algn="l" pos="1552680"/>
                <a:tab algn="l" pos="2001960"/>
                <a:tab algn="l" pos="2451240"/>
                <a:tab algn="l" pos="2900520"/>
                <a:tab algn="l" pos="334980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520"/>
                <a:tab algn="l" pos="8740800"/>
                <a:tab algn="l" pos="9190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ttp://www.tse.jus.br/institucional/escola-judiciaria-eleitoral/revistas-da-eje/artigos/criacao-e-funcionamento-de-partidos-politicos-a-luz-da-constituicao-federal-de-198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6000" y="216000"/>
            <a:ext cx="9720000" cy="70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1273320"/>
            <a:ext cx="9059760" cy="125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a que serve um partido polít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3280" y="2771640"/>
            <a:ext cx="90597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ocês simpatizam com algum partido polít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03280" y="4429080"/>
            <a:ext cx="905976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 que é preciso para fundar um partido polític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tidos Políticos no Impé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0000"/>
          </a:bodyPr>
          <a:p>
            <a:pPr marL="378720" indent="-284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berais X Conserv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-284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oto censitário e 4 poderes. Uma Monarquia Constitu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-284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deologias bastante semelhantes, diferença “apenas” quanto à centralização ou regionalização do p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-284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Conservadores, por serem oligarcas mais próximos ao Imperador, pregavam maior centralização, enquanto os Liberais, líderes políticos locais, queriam a descentral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720" indent="-28440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lubes Republic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artidos Políticos na 1ª Re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27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0840" indent="-31608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vitória do regionalismo, caciques políticos no p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clubes republicanos passam a ser partidos (PRP, PRM, PRR, PRF.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esar de República, permanecia a oligarquia. Valia o “voto de cabresto”, que era aberto, além de analfabetos, mulheres, praças e religiosos não vota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840" indent="-31608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pública do “Café com le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440000" y="108000"/>
            <a:ext cx="7199280" cy="741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0360" y="576360"/>
            <a:ext cx="9360000" cy="5975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03280" y="6696000"/>
            <a:ext cx="7343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vista Careta, 1927. De Alfredo Stor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 Revolução de 1930 e a “Era Varga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7000"/>
          </a:bodyPr>
          <a:p>
            <a:pPr marL="324000" indent="-2433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Aliança Liberal, um grupo heterogêneo (tenentes, oligarquias dissidentes, profissionais liberais, trabalhadores urba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2433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 30 a 33 → Governo Provisório e interventorias: Congresso fech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2433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volta Constitucionalista de 1932: derrota militar e vitória po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2433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tituição de 19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2433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ntona Comunista de 193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2433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lano Cohen 19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4000" indent="-243360" algn="just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20840"/>
                <a:tab algn="l" pos="525600"/>
                <a:tab algn="l" pos="974880"/>
                <a:tab algn="l" pos="1424160"/>
                <a:tab algn="l" pos="1873080"/>
                <a:tab algn="l" pos="2322360"/>
                <a:tab algn="l" pos="2771640"/>
                <a:tab algn="l" pos="3220920"/>
                <a:tab algn="l" pos="3670200"/>
                <a:tab algn="l" pos="4119480"/>
                <a:tab algn="l" pos="4568760"/>
                <a:tab algn="l" pos="5018040"/>
                <a:tab algn="l" pos="5467320"/>
                <a:tab algn="l" pos="5916600"/>
                <a:tab algn="l" pos="6365880"/>
                <a:tab algn="l" pos="6815160"/>
                <a:tab algn="l" pos="7264440"/>
                <a:tab algn="l" pos="7713720"/>
                <a:tab algn="l" pos="8163000"/>
                <a:tab algn="l" pos="8612280"/>
                <a:tab algn="l" pos="90615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CB, ANL, AIB, PL, LEC, PR's, UDB, os partidos da Era Var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85720" y="593640"/>
            <a:ext cx="8953560" cy="631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4000" y="431640"/>
            <a:ext cx="9431280" cy="6624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21:40:50Z</dcterms:created>
  <dc:creator/>
  <dc:description/>
  <dc:language>en-US</dc:language>
  <cp:lastModifiedBy/>
  <cp:revision>0</cp:revision>
  <dc:subject/>
  <dc:title/>
</cp:coreProperties>
</file>